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105-2C1D-4F51-81F9-415336CE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ic Reading/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84D-53BA-46E8-87C4-42C15C58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A8D-62BA-4FC1-8BCA-F04454E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032-7595-4E45-B222-A28289BC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4AB-8180-4800-A869-F536F325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1B4B-9B9E-4EB3-9FE2-F50C271C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D92-6DB4-4F46-907E-B1521BEC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039-8114-440A-A1CD-532D909F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CB4E-479A-4D99-BD45-B5BABEA0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BE94-703A-49C0-8595-1E5D739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E2CD-6B66-49F4-8206-15EA49B8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C66-B230-4B3C-B14C-D4F4EE9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0CC-51E1-48B5-83DC-897AA5E8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7F79-0DBE-48CD-AB03-2E388406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AE0-C763-4110-A676-6C3618D8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E426-1C96-4818-BBB8-FB021DE8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3937-48CA-418E-A264-F71D6BD7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3871-8F61-4225-A8D7-63FA0D2D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E34-2374-4B15-B665-AD75DA3B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1EA-D105-4903-9CA2-0E0DB0D1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2E3-F262-4F75-BA36-0B04391D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78B-C251-4CFB-84D1-B24394C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539-F25A-4500-A969-B7E2647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EA3-42B7-4E7D-A931-8F59BA7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A8A-EC35-4D41-811D-7738EE5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51BC-1A8C-4811-A149-80DFFA7D742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24FB-5DCA-478A-81F8-F018716B8F1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952880" y="34290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2320" y="247320"/>
            <a:ext cx="7976520" cy="6530760"/>
            <a:chOff x="472320" y="247320"/>
            <a:chExt cx="7976520" cy="6530760"/>
          </a:xfrm>
        </p:grpSpPr>
        <p:sp>
          <p:nvSpPr>
            <p:cNvPr id="98" name="_s144390"/>
            <p:cNvSpPr/>
            <p:nvPr/>
          </p:nvSpPr>
          <p:spPr>
            <a:xfrm flipH="1" flipV="1">
              <a:off x="3049920" y="235764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_s144391"/>
            <p:cNvSpPr/>
            <p:nvPr/>
          </p:nvSpPr>
          <p:spPr>
            <a:xfrm>
              <a:off x="1347120" y="966240"/>
              <a:ext cx="1992960" cy="163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6666"/>
                  </a:solidFill>
                  <a:latin typeface="High Tower Text"/>
                </a:rPr>
                <a:t>Effective Lessons</a:t>
              </a:r>
              <a:endParaRPr b="0" lang="en-US" sz="17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0" name="_s144392"/>
            <p:cNvSpPr/>
            <p:nvPr/>
          </p:nvSpPr>
          <p:spPr>
            <a:xfrm flipH="1">
              <a:off x="2464920" y="3511440"/>
              <a:ext cx="999720" cy="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1" name="_s144393"/>
            <p:cNvSpPr/>
            <p:nvPr/>
          </p:nvSpPr>
          <p:spPr>
            <a:xfrm>
              <a:off x="472320" y="2697840"/>
              <a:ext cx="1992960" cy="1632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High 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Expectations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" name="_s144394"/>
            <p:cNvSpPr/>
            <p:nvPr/>
          </p:nvSpPr>
          <p:spPr>
            <a:xfrm flipH="1">
              <a:off x="3049920" y="408708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3" name="_s144395"/>
            <p:cNvSpPr/>
            <p:nvPr/>
          </p:nvSpPr>
          <p:spPr>
            <a:xfrm>
              <a:off x="1350000" y="4429800"/>
              <a:ext cx="1992960" cy="163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Effective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Relationships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with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Students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4" name="_s144396"/>
            <p:cNvSpPr/>
            <p:nvPr/>
          </p:nvSpPr>
          <p:spPr>
            <a:xfrm>
              <a:off x="4458960" y="4325040"/>
              <a:ext cx="0" cy="81828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5" name="_s144397"/>
            <p:cNvSpPr/>
            <p:nvPr/>
          </p:nvSpPr>
          <p:spPr>
            <a:xfrm>
              <a:off x="3465000" y="5145840"/>
              <a:ext cx="1993680" cy="1632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666699"/>
                  </a:solidFill>
                  <a:latin typeface="High Tower Text"/>
                </a:rPr>
                <a:t>Engage Students</a:t>
              </a:r>
              <a:endParaRPr b="0" lang="en-US" sz="29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_s144398"/>
            <p:cNvSpPr/>
            <p:nvPr/>
          </p:nvSpPr>
          <p:spPr>
            <a:xfrm>
              <a:off x="5162040" y="408708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_s144399"/>
            <p:cNvSpPr/>
            <p:nvPr/>
          </p:nvSpPr>
          <p:spPr>
            <a:xfrm>
              <a:off x="5580720" y="4426920"/>
              <a:ext cx="1992960" cy="16322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666699"/>
                  </a:solidFill>
                  <a:latin typeface="High Tower Text"/>
                </a:rPr>
                <a:t>Synthesis and</a:t>
              </a:r>
              <a:endParaRPr b="0" lang="en-US" sz="25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666699"/>
                  </a:solidFill>
                  <a:latin typeface="High Tower Text"/>
                </a:rPr>
                <a:t>Hypothesis</a:t>
              </a:r>
              <a:endParaRPr b="0" lang="en-US" sz="25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_s144400"/>
            <p:cNvSpPr/>
            <p:nvPr/>
          </p:nvSpPr>
          <p:spPr>
            <a:xfrm>
              <a:off x="5452560" y="3511440"/>
              <a:ext cx="999720" cy="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_s144401"/>
            <p:cNvSpPr/>
            <p:nvPr/>
          </p:nvSpPr>
          <p:spPr>
            <a:xfrm>
              <a:off x="6455160" y="2695320"/>
              <a:ext cx="1993680" cy="1631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High Tower Text"/>
                </a:rPr>
                <a:t>Deepening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High Tower Text"/>
                </a:rPr>
                <a:t>Students’ 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High Tower Text"/>
                </a:rPr>
                <a:t>Understanding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_s144402"/>
            <p:cNvSpPr/>
            <p:nvPr/>
          </p:nvSpPr>
          <p:spPr>
            <a:xfrm flipV="1">
              <a:off x="5162040" y="235764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_s144403"/>
            <p:cNvSpPr/>
            <p:nvPr/>
          </p:nvSpPr>
          <p:spPr>
            <a:xfrm>
              <a:off x="5577120" y="963720"/>
              <a:ext cx="1993680" cy="16315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Student 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Interaction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with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New Knowledge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_s144404"/>
            <p:cNvSpPr/>
            <p:nvPr/>
          </p:nvSpPr>
          <p:spPr>
            <a:xfrm flipV="1">
              <a:off x="4458960" y="1878840"/>
              <a:ext cx="0" cy="81828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_s144405"/>
            <p:cNvSpPr/>
            <p:nvPr/>
          </p:nvSpPr>
          <p:spPr>
            <a:xfrm>
              <a:off x="3462120" y="247320"/>
              <a:ext cx="1992960" cy="16315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Learning Goals,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Tracking Student 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Progress,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Celebrating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Succes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_s144406"/>
            <p:cNvSpPr/>
            <p:nvPr/>
          </p:nvSpPr>
          <p:spPr>
            <a:xfrm>
              <a:off x="3462120" y="2697840"/>
              <a:ext cx="1992960" cy="16322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6666"/>
                  </a:solidFill>
                  <a:latin typeface="High Tower Text"/>
                </a:rPr>
                <a:t>Teaching to Increase</a:t>
              </a:r>
              <a:endParaRPr b="0" lang="en-US" sz="2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6666"/>
                  </a:solidFill>
                  <a:latin typeface="High Tower Text"/>
                </a:rPr>
                <a:t>Student Achievement</a:t>
              </a:r>
              <a:endParaRPr b="0" lang="en-US" sz="2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6666"/>
                  </a:solidFill>
                  <a:latin typeface="High Tower Text"/>
                </a:rPr>
                <a:t>-Marzano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Bell MT"/>
              </a:rPr>
              <a:t>Mild Controversy and Competition as Stimuli for Engag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Engineering controversy- i.e.. Deb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Eliciting divergent opin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Resolving discrepa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Should not cause embarra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Bell MT"/>
              </a:rPr>
              <a:t>ACTION STEPS- (1) Engage students in friendly controversy, don’t let it get too heated (2) Use inconsequential competition, games &amp; rewards for f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ll MT"/>
              </a:rPr>
              <a:t>What is </a:t>
            </a:r>
            <a:r>
              <a:rPr b="1" lang="en-US" sz="4200" spc="-1" strike="noStrike">
                <a:solidFill>
                  <a:srgbClr val="666699"/>
                </a:solidFill>
                <a:latin typeface="Bell MT"/>
              </a:rPr>
              <a:t>ENGAGEMENT</a:t>
            </a:r>
            <a:r>
              <a:rPr b="0" lang="en-US" sz="4200" spc="-1" strike="noStrike">
                <a:solidFill>
                  <a:srgbClr val="000000"/>
                </a:solidFill>
                <a:latin typeface="Bell MT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What will we do to engage student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ell MT"/>
              </a:rPr>
              <a:t>“</a:t>
            </a:r>
            <a:r>
              <a:rPr b="1" lang="en-US" sz="3000" spc="-1" strike="noStrike">
                <a:solidFill>
                  <a:srgbClr val="006666"/>
                </a:solidFill>
                <a:latin typeface="Bell MT"/>
              </a:rPr>
              <a:t>Hands-on activity is not enough; it must also be ‘minds-on’” (Danielson, 2007, p. 84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Engagement can mean many things: participation, time on task, attention to lesson, intellectual invol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3 Types: behavioral, emotional, and cogni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attending to the instructional activities occurring in class” (Marzano, 2007, p. 9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108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35268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Bell MT"/>
              </a:rPr>
              <a:t>Facilitating “Minds-On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Representation of Con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Activities and Assign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Emphasize problem-bas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Permits student choice and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Encourage depth rather than brea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Require student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Designed to be relevant and authen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Grouping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Use of instructional materials and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Structure and pac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Bell MT"/>
              </a:rPr>
              <a:t>(Danielson, 199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Bell MT"/>
              </a:rPr>
              <a:t>See hando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86600" y="1523880"/>
            <a:ext cx="1633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01064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Ways to Increase Student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High ener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Missing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The self-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Mild press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Mild Controversy and compet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1439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57913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High Energy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aying attention requires a certain energy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hysical activity to increase oxygen flow- tactile and kinesthetic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acing during transitions- “the part of the brain that processes movement is the same part that processes learning” (Jensen,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ositive connection between teacher enthusiasm and student achie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Bell MT"/>
              </a:rPr>
              <a:t>ACTION STEPS- (1) Use physical movement  (2) Demonstrate intensity and enthusiasm for content, one method is through anecdotes or stories not found in text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Missing Information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204480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Puzzles, question, and games foster interest to tap into sense of curiosity and anticip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Clozentropy (developed by Taylor, 195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Consid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illy went to the _______ to buy some _______ to put on his cereal ________ they were out of st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6699"/>
                </a:solidFill>
                <a:latin typeface="Bell MT"/>
              </a:rPr>
              <a:t>ACTION STEP- Provide unusual information that captures one’s attention, call them “Fun Fact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Bell MT"/>
              </a:rPr>
              <a:t>Example: No piece of paper can be folded in half more than seven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Bell MT"/>
              </a:rPr>
              <a:t>Example: Thirty-one percent of employees skip lunch entir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34280" y="380880"/>
            <a:ext cx="14670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The Self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204480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Self-system is “me, self and 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Me: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I: values by which one defines him/her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Bell MT"/>
              </a:rPr>
              <a:t>ACTION STEP- Provide opportunities for students to talk about themse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4065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Mild Pressure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204480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Anxiety has a negative eff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mild pressure forces attention on the source of the pressure” (Marzano, 2007, p. 1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Must be given at the right level of intensity for the right duration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Generated during ques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Wai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Bell MT"/>
              </a:rPr>
              <a:t>ACTION STEPS- (1) Manage questions and response rates (2) Use appropriate pacing- have routines in place, transition lesson segments with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990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3:32Z</dcterms:created>
  <dc:creator>North Rockland Schools</dc:creator>
  <dc:description/>
  <dc:language>en-US</dc:language>
  <cp:lastModifiedBy>North Rockland High School</cp:lastModifiedBy>
  <dcterms:modified xsi:type="dcterms:W3CDTF">2008-04-01T15:25:29Z</dcterms:modified>
  <cp:revision>75</cp:revision>
  <dc:subject/>
  <dc:title>Special Education</dc:title>
</cp:coreProperties>
</file>